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7B60-1E52-4E01-A8E2-DA6897E7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5282-015E-4819-AED5-1A4DC7C7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D85C-3643-4D1D-98F6-844BBD85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7A10-B3E5-4CE1-968C-5341242D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933F-CAA4-49A0-9F73-BC984EAD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8A8E-E3EB-4A2B-990D-AE6D3510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B601-1FA1-411E-AF71-FD5D7C1E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9227-BFA2-4E28-9C3A-A18F5811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30EF-7F2B-452E-B1B1-733138EC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FD62-A64F-4208-9326-778D5BD6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33C3-1C8B-4F1F-925F-5A4D8E83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B059-98F0-492B-B6A2-BB28D7C4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E334-7482-4FC2-A097-FA4DEE408A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s://abrakadabra.fun/40435-shablon-dlja-objavlenija-v-detskom-den-otca.html" TargetMode="External"/><Relationship Id="rId2" Type="http://schemas.openxmlformats.org/officeDocument/2006/relationships/hyperlink" Target="https://pt.vecteezy.com/arte-vetorial/2382311-plano-de-fundo-do-dia-do-pai" TargetMode="External"/><Relationship Id="rId3" Type="http://schemas.openxmlformats.org/officeDocument/2006/relationships/hyperlink" Target="https://learningapps.org/view21699865" TargetMode="External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2640" y="23875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 Light"/>
              </a:rPr>
              <a:t>Прослушивание музыкальной композиции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 Light"/>
              </a:rPr>
              <a:t>О ком в композиции идет речь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1501920" y="1309680"/>
            <a:ext cx="9088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VivaldiD CL"/>
              </a:rPr>
              <a:t>Интеллектуальная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VivaldiD CL"/>
              </a:rPr>
              <a:t>викторин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2"/>
          <a:stretch/>
        </p:blipFill>
        <p:spPr>
          <a:xfrm>
            <a:off x="5010120" y="4216320"/>
            <a:ext cx="2071800" cy="26416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11576160" y="6323040"/>
            <a:ext cx="573120" cy="4413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"/>
          <p:cNvPicPr/>
          <p:nvPr/>
        </p:nvPicPr>
        <p:blipFill>
          <a:blip r:embed="rId4"/>
          <a:stretch/>
        </p:blipFill>
        <p:spPr>
          <a:xfrm>
            <a:off x="95400" y="0"/>
            <a:ext cx="130968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Блок-схема: знак завершения 3"/>
          <p:cNvSpPr/>
          <p:nvPr/>
        </p:nvSpPr>
        <p:spPr>
          <a:xfrm>
            <a:off x="6396120" y="3151080"/>
            <a:ext cx="3287520" cy="6001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2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1576160" y="6323040"/>
            <a:ext cx="573120" cy="441360"/>
          </a:xfrm>
          <a:prstGeom prst="rect">
            <a:avLst/>
          </a:prstGeom>
          <a:ln w="0">
            <a:noFill/>
          </a:ln>
        </p:spPr>
      </p:pic>
      <p:sp>
        <p:nvSpPr>
          <p:cNvPr id="88" name="Блок-схема: знак завершения 2"/>
          <p:cNvSpPr/>
          <p:nvPr/>
        </p:nvSpPr>
        <p:spPr>
          <a:xfrm>
            <a:off x="3030480" y="1419120"/>
            <a:ext cx="6154920" cy="15433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В каком году впервые в России отметили День отца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Блок-схема: знак завершения 4"/>
          <p:cNvSpPr/>
          <p:nvPr/>
        </p:nvSpPr>
        <p:spPr>
          <a:xfrm>
            <a:off x="6396120" y="4173480"/>
            <a:ext cx="3287520" cy="59868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Блок-схема: знак завершения 5"/>
          <p:cNvSpPr/>
          <p:nvPr/>
        </p:nvSpPr>
        <p:spPr>
          <a:xfrm>
            <a:off x="2511360" y="4173480"/>
            <a:ext cx="3286080" cy="59868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Блок-схема: знак завершения 6"/>
          <p:cNvSpPr/>
          <p:nvPr/>
        </p:nvSpPr>
        <p:spPr>
          <a:xfrm>
            <a:off x="2511360" y="3151080"/>
            <a:ext cx="3286080" cy="6001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ad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Блок-схема: знак завершения 3"/>
          <p:cNvSpPr/>
          <p:nvPr/>
        </p:nvSpPr>
        <p:spPr>
          <a:xfrm>
            <a:off x="2511360" y="4173480"/>
            <a:ext cx="3286080" cy="59868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Calibri"/>
              </a:rPr>
              <a:t>В третье воскресенье октябр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1576160" y="6323040"/>
            <a:ext cx="573120" cy="441360"/>
          </a:xfrm>
          <a:prstGeom prst="rect">
            <a:avLst/>
          </a:prstGeom>
          <a:ln w="0">
            <a:noFill/>
          </a:ln>
        </p:spPr>
      </p:pic>
      <p:sp>
        <p:nvSpPr>
          <p:cNvPr id="94" name="Блок-схема: знак завершения 2"/>
          <p:cNvSpPr/>
          <p:nvPr/>
        </p:nvSpPr>
        <p:spPr>
          <a:xfrm>
            <a:off x="3030480" y="1419120"/>
            <a:ext cx="6154920" cy="15433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Когда в нашей стране празднуют День отца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Блок-схема: знак завершения 4"/>
          <p:cNvSpPr/>
          <p:nvPr/>
        </p:nvSpPr>
        <p:spPr>
          <a:xfrm>
            <a:off x="6396120" y="4173480"/>
            <a:ext cx="3287520" cy="59868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Calibri"/>
              </a:rPr>
              <a:t>В третье воскресенье сентябр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Блок-схема: знак завершения 5"/>
          <p:cNvSpPr/>
          <p:nvPr/>
        </p:nvSpPr>
        <p:spPr>
          <a:xfrm>
            <a:off x="6396120" y="3151080"/>
            <a:ext cx="3287520" cy="6001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Calibri"/>
              </a:rPr>
              <a:t>В третье воскресенье декабря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Блок-схема: знак завершения 6"/>
          <p:cNvSpPr/>
          <p:nvPr/>
        </p:nvSpPr>
        <p:spPr>
          <a:xfrm>
            <a:off x="2511360" y="3151080"/>
            <a:ext cx="3286080" cy="6001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Calibri"/>
              </a:rPr>
              <a:t>В третье воскресенье ноябр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ad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Блок-схема: знак завершения 3"/>
          <p:cNvSpPr/>
          <p:nvPr/>
        </p:nvSpPr>
        <p:spPr>
          <a:xfrm>
            <a:off x="6396120" y="4173480"/>
            <a:ext cx="3287520" cy="59868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1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1576160" y="6323040"/>
            <a:ext cx="573120" cy="441360"/>
          </a:xfrm>
          <a:prstGeom prst="rect">
            <a:avLst/>
          </a:prstGeom>
          <a:ln w="0">
            <a:noFill/>
          </a:ln>
        </p:spPr>
      </p:pic>
      <p:sp>
        <p:nvSpPr>
          <p:cNvPr id="100" name="Блок-схема: знак завершения 2"/>
          <p:cNvSpPr/>
          <p:nvPr/>
        </p:nvSpPr>
        <p:spPr>
          <a:xfrm>
            <a:off x="3030480" y="1419120"/>
            <a:ext cx="6154920" cy="15433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В какой стране впервые отпраздновали День отца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знак завершения 4"/>
          <p:cNvSpPr/>
          <p:nvPr/>
        </p:nvSpPr>
        <p:spPr>
          <a:xfrm>
            <a:off x="6396120" y="3151080"/>
            <a:ext cx="3287520" cy="6001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 Кита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Блок-схема: знак завершения 5"/>
          <p:cNvSpPr/>
          <p:nvPr/>
        </p:nvSpPr>
        <p:spPr>
          <a:xfrm>
            <a:off x="2511360" y="4173480"/>
            <a:ext cx="3286080" cy="59868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 Бразили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Блок-схема: знак завершения 6"/>
          <p:cNvSpPr/>
          <p:nvPr/>
        </p:nvSpPr>
        <p:spPr>
          <a:xfrm>
            <a:off x="2511360" y="3151080"/>
            <a:ext cx="3286080" cy="6001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 Росси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7"/>
          <p:cNvSpPr/>
          <p:nvPr/>
        </p:nvSpPr>
        <p:spPr>
          <a:xfrm>
            <a:off x="5111280" y="501012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19 июня 1910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ad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1576160" y="6323040"/>
            <a:ext cx="573120" cy="441360"/>
          </a:xfrm>
          <a:prstGeom prst="rect">
            <a:avLst/>
          </a:prstGeom>
          <a:ln w="0">
            <a:noFill/>
          </a:ln>
        </p:spPr>
      </p:pic>
      <p:sp>
        <p:nvSpPr>
          <p:cNvPr id="106" name="Блок-схема: знак завершения 2"/>
          <p:cNvSpPr/>
          <p:nvPr/>
        </p:nvSpPr>
        <p:spPr>
          <a:xfrm>
            <a:off x="3030480" y="1419120"/>
            <a:ext cx="6154920" cy="15433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чите фразу отца Дяди Фёдора из книги Э. Успенского "Дядя Фёдор, пёс и кот«: "И от кота будет польза. Мы его на собаку выучим. Будет у нас...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Блок-схема: знак завершения 3"/>
          <p:cNvSpPr/>
          <p:nvPr/>
        </p:nvSpPr>
        <p:spPr>
          <a:xfrm>
            <a:off x="2511360" y="3151080"/>
            <a:ext cx="3286080" cy="6001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торожевой к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Блок-схема: знак завершения 4"/>
          <p:cNvSpPr/>
          <p:nvPr/>
        </p:nvSpPr>
        <p:spPr>
          <a:xfrm>
            <a:off x="6396120" y="3151080"/>
            <a:ext cx="3287520" cy="6001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Охотничий к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Блок-схема: знак завершения 5"/>
          <p:cNvSpPr/>
          <p:nvPr/>
        </p:nvSpPr>
        <p:spPr>
          <a:xfrm>
            <a:off x="2511360" y="4173480"/>
            <a:ext cx="3286080" cy="59868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олезный к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Блок-схема: знак завершения 6"/>
          <p:cNvSpPr/>
          <p:nvPr/>
        </p:nvSpPr>
        <p:spPr>
          <a:xfrm>
            <a:off x="6396120" y="4173480"/>
            <a:ext cx="3287520" cy="59868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лужебный ко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ad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Блок-схема: знак завершения 3"/>
          <p:cNvSpPr/>
          <p:nvPr/>
        </p:nvSpPr>
        <p:spPr>
          <a:xfrm>
            <a:off x="6396120" y="4173480"/>
            <a:ext cx="3287520" cy="59868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Космозооло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1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1576160" y="6323040"/>
            <a:ext cx="573120" cy="441360"/>
          </a:xfrm>
          <a:prstGeom prst="rect">
            <a:avLst/>
          </a:prstGeom>
          <a:ln w="0">
            <a:noFill/>
          </a:ln>
        </p:spPr>
      </p:pic>
      <p:sp>
        <p:nvSpPr>
          <p:cNvPr id="113" name="Блок-схема: знак завершения 2"/>
          <p:cNvSpPr/>
          <p:nvPr/>
        </p:nvSpPr>
        <p:spPr>
          <a:xfrm>
            <a:off x="3030480" y="1419120"/>
            <a:ext cx="6154920" cy="15433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Какой необычной профессие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бладал папа Алисы Селезнёвой из серии фантастических рассказов Кира Булычева "Приключения Алисы«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Блок-схема: знак завершения 4"/>
          <p:cNvSpPr/>
          <p:nvPr/>
        </p:nvSpPr>
        <p:spPr>
          <a:xfrm>
            <a:off x="6396120" y="3151080"/>
            <a:ext cx="3287520" cy="6001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Космогеоло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Блок-схема: знак завершения 5"/>
          <p:cNvSpPr/>
          <p:nvPr/>
        </p:nvSpPr>
        <p:spPr>
          <a:xfrm>
            <a:off x="2511360" y="4173480"/>
            <a:ext cx="3286080" cy="59868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алеобота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Блок-схема: знак завершения 6"/>
          <p:cNvSpPr/>
          <p:nvPr/>
        </p:nvSpPr>
        <p:spPr>
          <a:xfrm>
            <a:off x="2511360" y="3151080"/>
            <a:ext cx="3286080" cy="6001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Астрофиз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ad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Блок-схема: знак завершения 3"/>
          <p:cNvSpPr/>
          <p:nvPr/>
        </p:nvSpPr>
        <p:spPr>
          <a:xfrm>
            <a:off x="6396120" y="3151080"/>
            <a:ext cx="3287520" cy="6001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Отец мой да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1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1576160" y="6323040"/>
            <a:ext cx="573120" cy="441360"/>
          </a:xfrm>
          <a:prstGeom prst="rect">
            <a:avLst/>
          </a:prstGeom>
          <a:ln w="0">
            <a:noFill/>
          </a:ln>
        </p:spPr>
      </p:pic>
      <p:sp>
        <p:nvSpPr>
          <p:cNvPr id="119" name="Блок-схема: знак завершения 2"/>
          <p:cNvSpPr/>
          <p:nvPr/>
        </p:nvSpPr>
        <p:spPr>
          <a:xfrm>
            <a:off x="3030480" y="1419120"/>
            <a:ext cx="6154920" cy="15433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одолжи строки из стихотворени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Н. Некрасова: "Семья-то большая, да два человека. Всего мужиков-то..."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Блок-схема: знак завершения 4"/>
          <p:cNvSpPr/>
          <p:nvPr/>
        </p:nvSpPr>
        <p:spPr>
          <a:xfrm>
            <a:off x="6396120" y="4173480"/>
            <a:ext cx="3287520" cy="59868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Мой дядя и 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Блок-схема: знак завершения 5"/>
          <p:cNvSpPr/>
          <p:nvPr/>
        </p:nvSpPr>
        <p:spPr>
          <a:xfrm>
            <a:off x="2511360" y="4173480"/>
            <a:ext cx="3286080" cy="59868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Брательник да 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Блок-схема: знак завершения 6"/>
          <p:cNvSpPr/>
          <p:nvPr/>
        </p:nvSpPr>
        <p:spPr>
          <a:xfrm>
            <a:off x="2511360" y="3151080"/>
            <a:ext cx="3286080" cy="6001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Дедуля и 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ad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Блок-схема: знак завершения 3"/>
          <p:cNvSpPr/>
          <p:nvPr/>
        </p:nvSpPr>
        <p:spPr>
          <a:xfrm>
            <a:off x="2511360" y="4173480"/>
            <a:ext cx="3286080" cy="59868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ын молод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1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1576160" y="6323040"/>
            <a:ext cx="573120" cy="441360"/>
          </a:xfrm>
          <a:prstGeom prst="rect">
            <a:avLst/>
          </a:prstGeom>
          <a:ln w="0">
            <a:noFill/>
          </a:ln>
        </p:spPr>
      </p:pic>
      <p:sp>
        <p:nvSpPr>
          <p:cNvPr id="125" name="Блок-схема: знак завершения 2"/>
          <p:cNvSpPr/>
          <p:nvPr/>
        </p:nvSpPr>
        <p:spPr>
          <a:xfrm>
            <a:off x="3030480" y="1419120"/>
            <a:ext cx="6154920" cy="15433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одолжи пословицу: где хороший отец, там и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Блок-схема: знак завершения 4"/>
          <p:cNvSpPr/>
          <p:nvPr/>
        </p:nvSpPr>
        <p:spPr>
          <a:xfrm>
            <a:off x="6396120" y="4173480"/>
            <a:ext cx="3287520" cy="59868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частья дворе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Блок-схема: знак завершения 5"/>
          <p:cNvSpPr/>
          <p:nvPr/>
        </p:nvSpPr>
        <p:spPr>
          <a:xfrm>
            <a:off x="6396120" y="3151080"/>
            <a:ext cx="3287520" cy="6001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мелый бо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Блок-схема: знак завершения 6"/>
          <p:cNvSpPr/>
          <p:nvPr/>
        </p:nvSpPr>
        <p:spPr>
          <a:xfrm>
            <a:off x="2511360" y="3151080"/>
            <a:ext cx="3286080" cy="6001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Денег ларе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ad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1576160" y="6323040"/>
            <a:ext cx="573120" cy="441360"/>
          </a:xfrm>
          <a:prstGeom prst="rect">
            <a:avLst/>
          </a:prstGeom>
          <a:ln w="0">
            <a:noFill/>
          </a:ln>
        </p:spPr>
      </p:pic>
      <p:sp>
        <p:nvSpPr>
          <p:cNvPr id="130" name="Блок-схема: знак завершения 2"/>
          <p:cNvSpPr/>
          <p:nvPr/>
        </p:nvSpPr>
        <p:spPr>
          <a:xfrm>
            <a:off x="3030480" y="1419120"/>
            <a:ext cx="6154920" cy="15433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Что папа-заяц из сказки Владимира Сутеева нёс своим зайчатам в мешке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Блок-схема: знак завершения 3"/>
          <p:cNvSpPr/>
          <p:nvPr/>
        </p:nvSpPr>
        <p:spPr>
          <a:xfrm>
            <a:off x="2511360" y="3151080"/>
            <a:ext cx="3286080" cy="6001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Ябло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Блок-схема: знак завершения 4"/>
          <p:cNvSpPr/>
          <p:nvPr/>
        </p:nvSpPr>
        <p:spPr>
          <a:xfrm>
            <a:off x="6396120" y="3151080"/>
            <a:ext cx="3287520" cy="6001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Морков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Блок-схема: знак завершения 5"/>
          <p:cNvSpPr/>
          <p:nvPr/>
        </p:nvSpPr>
        <p:spPr>
          <a:xfrm>
            <a:off x="2511360" y="4173480"/>
            <a:ext cx="3286080" cy="59868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Капус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Блок-схема: знак завершения 6"/>
          <p:cNvSpPr/>
          <p:nvPr/>
        </p:nvSpPr>
        <p:spPr>
          <a:xfrm>
            <a:off x="6396120" y="4173480"/>
            <a:ext cx="3287520" cy="59868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Кору оси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ad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Блок-схема: знак завершения 3"/>
          <p:cNvSpPr/>
          <p:nvPr/>
        </p:nvSpPr>
        <p:spPr>
          <a:xfrm>
            <a:off x="6396120" y="4173480"/>
            <a:ext cx="3287520" cy="59868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Царь Сал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1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1576160" y="6323040"/>
            <a:ext cx="573120" cy="441360"/>
          </a:xfrm>
          <a:prstGeom prst="rect">
            <a:avLst/>
          </a:prstGeom>
          <a:ln w="0">
            <a:noFill/>
          </a:ln>
        </p:spPr>
      </p:pic>
      <p:sp>
        <p:nvSpPr>
          <p:cNvPr id="137" name="Блок-схема: знак завершения 2"/>
          <p:cNvSpPr/>
          <p:nvPr/>
        </p:nvSpPr>
        <p:spPr>
          <a:xfrm>
            <a:off x="3030480" y="1419120"/>
            <a:ext cx="6154920" cy="15433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Как звали отца князя Гвидона из сказки Александра Сергеевича Пушкина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Блок-схема: знак завершения 4"/>
          <p:cNvSpPr/>
          <p:nvPr/>
        </p:nvSpPr>
        <p:spPr>
          <a:xfrm>
            <a:off x="6396120" y="3151080"/>
            <a:ext cx="3287520" cy="6001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Царь Дад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Блок-схема: знак завершения 5"/>
          <p:cNvSpPr/>
          <p:nvPr/>
        </p:nvSpPr>
        <p:spPr>
          <a:xfrm>
            <a:off x="2511360" y="4173480"/>
            <a:ext cx="3286080" cy="59868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Царь Беренде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Блок-схема: знак завершения 6"/>
          <p:cNvSpPr/>
          <p:nvPr/>
        </p:nvSpPr>
        <p:spPr>
          <a:xfrm>
            <a:off x="2511360" y="3151080"/>
            <a:ext cx="3286080" cy="6001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Царь Буя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ad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7671960" y="4857840"/>
            <a:ext cx="451980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663300"/>
              </a:solidFill>
              <a:latin typeface="Times New Roman"/>
              <a:ea typeface="Times New Roman"/>
            </a:endParaRPr>
          </a:p>
        </p:txBody>
      </p:sp>
      <p:pic>
        <p:nvPicPr>
          <p:cNvPr id="43" name="Прямоугольник 4" descr=""/>
          <p:cNvPicPr/>
          <p:nvPr/>
        </p:nvPicPr>
        <p:blipFill>
          <a:blip r:embed="rId1"/>
          <a:stretch/>
        </p:blipFill>
        <p:spPr>
          <a:xfrm>
            <a:off x="3432240" y="865080"/>
            <a:ext cx="5187960" cy="1390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Admin\Desktop\7860668853863654.jpg"/>
          <p:cNvPicPr/>
          <p:nvPr/>
        </p:nvPicPr>
        <p:blipFill>
          <a:blip r:embed="rId2"/>
          <a:stretch/>
        </p:blipFill>
        <p:spPr>
          <a:xfrm>
            <a:off x="-311040" y="3529080"/>
            <a:ext cx="6662520" cy="3652920"/>
          </a:xfrm>
          <a:prstGeom prst="rect">
            <a:avLst/>
          </a:prstGeom>
          <a:ln w="0">
            <a:noFill/>
          </a:ln>
        </p:spPr>
      </p:pic>
      <p:pic>
        <p:nvPicPr>
          <p:cNvPr id="45" name="image1.png" descr=""/>
          <p:cNvPicPr/>
          <p:nvPr/>
        </p:nvPicPr>
        <p:blipFill>
          <a:blip r:embed="rId3"/>
          <a:stretch/>
        </p:blipFill>
        <p:spPr>
          <a:xfrm>
            <a:off x="6230880" y="2503440"/>
            <a:ext cx="2963880" cy="38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Блок-схема: знак завершения 3"/>
          <p:cNvSpPr/>
          <p:nvPr/>
        </p:nvSpPr>
        <p:spPr>
          <a:xfrm>
            <a:off x="6396120" y="3151080"/>
            <a:ext cx="3287520" cy="6001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Купц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1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1576160" y="6323040"/>
            <a:ext cx="573120" cy="441360"/>
          </a:xfrm>
          <a:prstGeom prst="rect">
            <a:avLst/>
          </a:prstGeom>
          <a:ln w="0">
            <a:noFill/>
          </a:ln>
        </p:spPr>
      </p:pic>
      <p:sp>
        <p:nvSpPr>
          <p:cNvPr id="143" name="Блок-схема: знак завершения 2"/>
          <p:cNvSpPr/>
          <p:nvPr/>
        </p:nvSpPr>
        <p:spPr>
          <a:xfrm>
            <a:off x="3030480" y="1419120"/>
            <a:ext cx="6154920" cy="15433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Кем был отец Настеньки в сказк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А. Аксакова «Аленький цветочек»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Блок-схема: знак завершения 4"/>
          <p:cNvSpPr/>
          <p:nvPr/>
        </p:nvSpPr>
        <p:spPr>
          <a:xfrm>
            <a:off x="6396120" y="4173480"/>
            <a:ext cx="3287520" cy="59868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Царё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Блок-схема: знак завершения 5"/>
          <p:cNvSpPr/>
          <p:nvPr/>
        </p:nvSpPr>
        <p:spPr>
          <a:xfrm>
            <a:off x="2511360" y="4173480"/>
            <a:ext cx="3286080" cy="59868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Богатырё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Блок-схема: знак завершения 6"/>
          <p:cNvSpPr/>
          <p:nvPr/>
        </p:nvSpPr>
        <p:spPr>
          <a:xfrm>
            <a:off x="2511360" y="3151080"/>
            <a:ext cx="3286080" cy="6001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Леснич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ad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Блок-схема: знак завершения 3"/>
          <p:cNvSpPr/>
          <p:nvPr/>
        </p:nvSpPr>
        <p:spPr>
          <a:xfrm>
            <a:off x="2511360" y="4173480"/>
            <a:ext cx="3286080" cy="59868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Быть ас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1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1576160" y="6323040"/>
            <a:ext cx="573120" cy="441360"/>
          </a:xfrm>
          <a:prstGeom prst="rect">
            <a:avLst/>
          </a:prstGeom>
          <a:ln w="0">
            <a:noFill/>
          </a:ln>
        </p:spPr>
      </p:pic>
      <p:sp>
        <p:nvSpPr>
          <p:cNvPr id="149" name="Блок-схема: знак завершения 2"/>
          <p:cNvSpPr/>
          <p:nvPr/>
        </p:nvSpPr>
        <p:spPr>
          <a:xfrm>
            <a:off x="3030480" y="1419120"/>
            <a:ext cx="6154920" cy="15433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Чего не может сделать папа из известной песни «Песня про папу»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(сл. М. Танича, муз. В. Шаинского)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Блок-схема: знак завершения 4"/>
          <p:cNvSpPr/>
          <p:nvPr/>
        </p:nvSpPr>
        <p:spPr>
          <a:xfrm>
            <a:off x="6396120" y="4173480"/>
            <a:ext cx="3287520" cy="59868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Рубить др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Блок-схема: знак завершения 5"/>
          <p:cNvSpPr/>
          <p:nvPr/>
        </p:nvSpPr>
        <p:spPr>
          <a:xfrm>
            <a:off x="6396120" y="3151080"/>
            <a:ext cx="3287520" cy="6001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порить бас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Блок-схема: знак завершения 6"/>
          <p:cNvSpPr/>
          <p:nvPr/>
        </p:nvSpPr>
        <p:spPr>
          <a:xfrm>
            <a:off x="2511360" y="3151080"/>
            <a:ext cx="3286080" cy="6001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лавать брасс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ad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1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1576160" y="6323040"/>
            <a:ext cx="573120" cy="441360"/>
          </a:xfrm>
          <a:prstGeom prst="rect">
            <a:avLst/>
          </a:prstGeom>
          <a:ln w="0">
            <a:noFill/>
          </a:ln>
        </p:spPr>
      </p:pic>
      <p:sp>
        <p:nvSpPr>
          <p:cNvPr id="154" name="Блок-схема: знак завершения 2"/>
          <p:cNvSpPr/>
          <p:nvPr/>
        </p:nvSpPr>
        <p:spPr>
          <a:xfrm>
            <a:off x="3030480" y="1419120"/>
            <a:ext cx="6154920" cy="15433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В кого папа превращается по вечерам в песне «Любимый папа»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(сл. Ю. Энтина, муз. Д. Тухманова)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Блок-схема: знак завершения 3"/>
          <p:cNvSpPr/>
          <p:nvPr/>
        </p:nvSpPr>
        <p:spPr>
          <a:xfrm>
            <a:off x="2511360" y="3151080"/>
            <a:ext cx="3286080" cy="6001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 ко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Блок-схема: знак завершения 4"/>
          <p:cNvSpPr/>
          <p:nvPr/>
        </p:nvSpPr>
        <p:spPr>
          <a:xfrm>
            <a:off x="6396120" y="3151080"/>
            <a:ext cx="3287520" cy="6001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 драк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Блок-схема: знак завершения 5"/>
          <p:cNvSpPr/>
          <p:nvPr/>
        </p:nvSpPr>
        <p:spPr>
          <a:xfrm>
            <a:off x="2511360" y="4173480"/>
            <a:ext cx="3286080" cy="59868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 сказоч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Блок-схема: знак завершения 6"/>
          <p:cNvSpPr/>
          <p:nvPr/>
        </p:nvSpPr>
        <p:spPr>
          <a:xfrm>
            <a:off x="6396120" y="4173480"/>
            <a:ext cx="3287520" cy="59868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 суперм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ad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Блок-схема: знак завершения 3"/>
          <p:cNvSpPr/>
          <p:nvPr/>
        </p:nvSpPr>
        <p:spPr>
          <a:xfrm>
            <a:off x="6396120" y="4173480"/>
            <a:ext cx="3287520" cy="59868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Отец Буратин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1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1576160" y="6323040"/>
            <a:ext cx="573120" cy="441360"/>
          </a:xfrm>
          <a:prstGeom prst="rect">
            <a:avLst/>
          </a:prstGeom>
          <a:ln w="0">
            <a:noFill/>
          </a:ln>
        </p:spPr>
      </p:pic>
      <p:sp>
        <p:nvSpPr>
          <p:cNvPr id="161" name="Блок-схема: знак завершения 2"/>
          <p:cNvSpPr/>
          <p:nvPr/>
        </p:nvSpPr>
        <p:spPr>
          <a:xfrm>
            <a:off x="3030480" y="1419120"/>
            <a:ext cx="6154920" cy="15433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Кто такой папа Карло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Блок-схема: знак завершения 4"/>
          <p:cNvSpPr/>
          <p:nvPr/>
        </p:nvSpPr>
        <p:spPr>
          <a:xfrm>
            <a:off x="6396120" y="3151080"/>
            <a:ext cx="3287520" cy="6001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Отец Чиполлин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Блок-схема: знак завершения 5"/>
          <p:cNvSpPr/>
          <p:nvPr/>
        </p:nvSpPr>
        <p:spPr>
          <a:xfrm>
            <a:off x="2511360" y="4173480"/>
            <a:ext cx="3286080" cy="59868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Отец Али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Блок-схема: знак завершения 6"/>
          <p:cNvSpPr/>
          <p:nvPr/>
        </p:nvSpPr>
        <p:spPr>
          <a:xfrm>
            <a:off x="2511360" y="3151080"/>
            <a:ext cx="3286080" cy="6001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Отец Мальвин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ad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Блок-схема: знак завершения 3"/>
          <p:cNvSpPr/>
          <p:nvPr/>
        </p:nvSpPr>
        <p:spPr>
          <a:xfrm>
            <a:off x="6396120" y="3151080"/>
            <a:ext cx="3287520" cy="6001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К. Чуков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1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1576160" y="6323040"/>
            <a:ext cx="573120" cy="441360"/>
          </a:xfrm>
          <a:prstGeom prst="rect">
            <a:avLst/>
          </a:prstGeom>
          <a:ln w="0">
            <a:noFill/>
          </a:ln>
        </p:spPr>
      </p:pic>
      <p:sp>
        <p:nvSpPr>
          <p:cNvPr id="167" name="Блок-схема: знак завершения 2"/>
          <p:cNvSpPr/>
          <p:nvPr/>
        </p:nvSpPr>
        <p:spPr>
          <a:xfrm>
            <a:off x="3030480" y="1419120"/>
            <a:ext cx="6154920" cy="15433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Этот писатель, пытаясь развлечь заболевшего сына, сочинил сказку про крокодила. Назовите его им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Блок-схема: знак завершения 4"/>
          <p:cNvSpPr/>
          <p:nvPr/>
        </p:nvSpPr>
        <p:spPr>
          <a:xfrm>
            <a:off x="6396120" y="4173480"/>
            <a:ext cx="3287520" cy="59868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Р. Киплин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Блок-схема: знак завершения 5"/>
          <p:cNvSpPr/>
          <p:nvPr/>
        </p:nvSpPr>
        <p:spPr>
          <a:xfrm>
            <a:off x="2511360" y="4173480"/>
            <a:ext cx="3286080" cy="59868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. Крапив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Блок-схема: знак завершения 6"/>
          <p:cNvSpPr/>
          <p:nvPr/>
        </p:nvSpPr>
        <p:spPr>
          <a:xfrm>
            <a:off x="2511360" y="3151080"/>
            <a:ext cx="3286080" cy="6001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Э. Успен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ad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Блок-схема: знак завершения 3"/>
          <p:cNvSpPr/>
          <p:nvPr/>
        </p:nvSpPr>
        <p:spPr>
          <a:xfrm>
            <a:off x="2511360" y="4173480"/>
            <a:ext cx="3286080" cy="59868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е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1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1576160" y="6323040"/>
            <a:ext cx="573120" cy="441360"/>
          </a:xfrm>
          <a:prstGeom prst="rect">
            <a:avLst/>
          </a:prstGeom>
          <a:ln w="0">
            <a:noFill/>
          </a:ln>
        </p:spPr>
      </p:pic>
      <p:sp>
        <p:nvSpPr>
          <p:cNvPr id="173" name="Блок-схема: знак завершения 2"/>
          <p:cNvSpPr/>
          <p:nvPr/>
        </p:nvSpPr>
        <p:spPr>
          <a:xfrm>
            <a:off x="3030480" y="1419120"/>
            <a:ext cx="6154920" cy="15433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Что отец попросил сломать своих сыновей, чтобы преподать им урок единства (Л.Н. Толстой «Отец и сыновья»)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Блок-схема: знак завершения 4"/>
          <p:cNvSpPr/>
          <p:nvPr/>
        </p:nvSpPr>
        <p:spPr>
          <a:xfrm>
            <a:off x="6396120" y="4173480"/>
            <a:ext cx="3287520" cy="59868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ал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Блок-схема: знак завершения 5"/>
          <p:cNvSpPr/>
          <p:nvPr/>
        </p:nvSpPr>
        <p:spPr>
          <a:xfrm>
            <a:off x="6396120" y="3151080"/>
            <a:ext cx="3287520" cy="6001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Гвоз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Блок-схема: знак завершения 6"/>
          <p:cNvSpPr/>
          <p:nvPr/>
        </p:nvSpPr>
        <p:spPr>
          <a:xfrm>
            <a:off x="2511360" y="3151080"/>
            <a:ext cx="3286080" cy="6001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Кам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ad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Блок-схема: знак завершения 3"/>
          <p:cNvSpPr/>
          <p:nvPr/>
        </p:nvSpPr>
        <p:spPr>
          <a:xfrm>
            <a:off x="4097160" y="3821040"/>
            <a:ext cx="4019760" cy="887400"/>
          </a:xfrm>
          <a:prstGeom prst="flowChartTerminator">
            <a:avLst/>
          </a:prstGeom>
          <a:solidFill>
            <a:srgbClr val="ffffff"/>
          </a:solidFill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Батя, отец, батюшка, папенька, отч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1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1576160" y="6323040"/>
            <a:ext cx="573120" cy="441360"/>
          </a:xfrm>
          <a:prstGeom prst="rect">
            <a:avLst/>
          </a:prstGeom>
          <a:ln w="0">
            <a:noFill/>
          </a:ln>
        </p:spPr>
      </p:pic>
      <p:sp>
        <p:nvSpPr>
          <p:cNvPr id="179" name="Блок-схема: знак завершения 2"/>
          <p:cNvSpPr/>
          <p:nvPr/>
        </p:nvSpPr>
        <p:spPr>
          <a:xfrm>
            <a:off x="3030480" y="1419120"/>
            <a:ext cx="6154920" cy="15433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Какие синонимы к слову «папа» вы знаете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Блок-схема: знак завершения 3"/>
          <p:cNvSpPr/>
          <p:nvPr/>
        </p:nvSpPr>
        <p:spPr>
          <a:xfrm>
            <a:off x="4097160" y="3821040"/>
            <a:ext cx="4019760" cy="887400"/>
          </a:xfrm>
          <a:prstGeom prst="flowChartTerminator">
            <a:avLst/>
          </a:prstGeom>
          <a:solidFill>
            <a:srgbClr val="ffffff"/>
          </a:solidFill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споил, накормил да добру науч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1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1576160" y="6323040"/>
            <a:ext cx="573120" cy="441360"/>
          </a:xfrm>
          <a:prstGeom prst="rect">
            <a:avLst/>
          </a:prstGeom>
          <a:ln w="0">
            <a:noFill/>
          </a:ln>
        </p:spPr>
      </p:pic>
      <p:sp>
        <p:nvSpPr>
          <p:cNvPr id="182" name="Блок-схема: знак завершения 2"/>
          <p:cNvSpPr/>
          <p:nvPr/>
        </p:nvSpPr>
        <p:spPr>
          <a:xfrm>
            <a:off x="3030480" y="1419120"/>
            <a:ext cx="6154920" cy="15433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одолжи пословицу: не тот отец, кто родил, а тот, кто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Блок-схема: знак завершения 3"/>
          <p:cNvSpPr/>
          <p:nvPr/>
        </p:nvSpPr>
        <p:spPr>
          <a:xfrm>
            <a:off x="4097160" y="3821040"/>
            <a:ext cx="4019760" cy="887400"/>
          </a:xfrm>
          <a:prstGeom prst="flowChartTerminator">
            <a:avLst/>
          </a:prstGeom>
          <a:solidFill>
            <a:srgbClr val="ffffff"/>
          </a:solidFill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ример от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1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1576160" y="6323040"/>
            <a:ext cx="573120" cy="441360"/>
          </a:xfrm>
          <a:prstGeom prst="rect">
            <a:avLst/>
          </a:prstGeom>
          <a:ln w="0">
            <a:noFill/>
          </a:ln>
        </p:spPr>
      </p:pic>
      <p:sp>
        <p:nvSpPr>
          <p:cNvPr id="185" name="Блок-схема: знак завершения 2"/>
          <p:cNvSpPr/>
          <p:nvPr/>
        </p:nvSpPr>
        <p:spPr>
          <a:xfrm>
            <a:off x="3030480" y="1419120"/>
            <a:ext cx="6154920" cy="15433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одолжи пословицу: не надобно другого образца, когда в глазах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Блок-схема: знак завершения 3"/>
          <p:cNvSpPr/>
          <p:nvPr/>
        </p:nvSpPr>
        <p:spPr>
          <a:xfrm>
            <a:off x="4097160" y="3821040"/>
            <a:ext cx="4019760" cy="887400"/>
          </a:xfrm>
          <a:prstGeom prst="flowChartTerminator">
            <a:avLst/>
          </a:prstGeom>
          <a:solidFill>
            <a:srgbClr val="ffffff"/>
          </a:solidFill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Хвал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1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1576160" y="6323040"/>
            <a:ext cx="573120" cy="441360"/>
          </a:xfrm>
          <a:prstGeom prst="rect">
            <a:avLst/>
          </a:prstGeom>
          <a:ln w="0">
            <a:noFill/>
          </a:ln>
        </p:spPr>
      </p:pic>
      <p:sp>
        <p:nvSpPr>
          <p:cNvPr id="188" name="Блок-схема: знак завершения 2"/>
          <p:cNvSpPr/>
          <p:nvPr/>
        </p:nvSpPr>
        <p:spPr>
          <a:xfrm>
            <a:off x="3030480" y="1419120"/>
            <a:ext cx="6154920" cy="15433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одолжи пословицу: отец наказывает, отец и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60360" y="1073160"/>
            <a:ext cx="825804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9900"/>
                </a:solidFill>
                <a:latin typeface="Calibri Light"/>
              </a:rPr>
              <a:t>Впервые праздновался </a:t>
            </a:r>
            <a:br>
              <a:rPr sz="2900"/>
            </a:br>
            <a:r>
              <a:rPr b="1" i="1" lang="ru-RU" sz="2900" spc="-1" strike="noStrike">
                <a:solidFill>
                  <a:srgbClr val="c00000"/>
                </a:solidFill>
                <a:latin typeface="Calibri Light"/>
              </a:rPr>
              <a:t>19 июня 1910 года в США. </a:t>
            </a: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Calibri Light"/>
              </a:rPr>
              <a:t>Инициатором создания этого праздника называют миссис Додд из Вашингтона. </a:t>
            </a: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Calibri Light"/>
              </a:rPr>
              <a:t>Национальным праздником этот день в США стал в 1966 году.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Picture 4" descr="ш"/>
          <p:cNvPicPr/>
          <p:nvPr/>
        </p:nvPicPr>
        <p:blipFill>
          <a:blip r:embed="rId1"/>
          <a:stretch/>
        </p:blipFill>
        <p:spPr>
          <a:xfrm>
            <a:off x="3186000" y="4156200"/>
            <a:ext cx="5735880" cy="2355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Блок-схема: знак завершения 3"/>
          <p:cNvSpPr/>
          <p:nvPr/>
        </p:nvSpPr>
        <p:spPr>
          <a:xfrm>
            <a:off x="4097160" y="3821040"/>
            <a:ext cx="4019760" cy="887400"/>
          </a:xfrm>
          <a:prstGeom prst="flowChartTerminator">
            <a:avLst/>
          </a:prstGeom>
          <a:solidFill>
            <a:srgbClr val="ffffff"/>
          </a:solidFill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До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1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1576160" y="6323040"/>
            <a:ext cx="573120" cy="441360"/>
          </a:xfrm>
          <a:prstGeom prst="rect">
            <a:avLst/>
          </a:prstGeom>
          <a:ln w="0">
            <a:noFill/>
          </a:ln>
        </p:spPr>
      </p:pic>
      <p:sp>
        <p:nvSpPr>
          <p:cNvPr id="191" name="Блок-схема: знак завершения 2"/>
          <p:cNvSpPr/>
          <p:nvPr/>
        </p:nvSpPr>
        <p:spPr>
          <a:xfrm>
            <a:off x="3030480" y="1419120"/>
            <a:ext cx="6154920" cy="15433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одолжи пословицу: отец – надёжный фундамент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Блок-схема: знак завершения 2"/>
          <p:cNvSpPr/>
          <p:nvPr/>
        </p:nvSpPr>
        <p:spPr>
          <a:xfrm>
            <a:off x="3030480" y="1419120"/>
            <a:ext cx="6154920" cy="15433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Есть ли в нашей стране памятники главе семейства (отцу)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Блок-схема: знак завершения 4"/>
          <p:cNvSpPr/>
          <p:nvPr/>
        </p:nvSpPr>
        <p:spPr>
          <a:xfrm>
            <a:off x="6396120" y="3479760"/>
            <a:ext cx="3287520" cy="59868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Блок-схема: знак завершения 5"/>
          <p:cNvSpPr/>
          <p:nvPr/>
        </p:nvSpPr>
        <p:spPr>
          <a:xfrm>
            <a:off x="2419200" y="3463920"/>
            <a:ext cx="3286440" cy="598320"/>
          </a:xfrm>
          <a:prstGeom prst="flowChartTerminator">
            <a:avLst/>
          </a:pr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Н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Группа 7"/>
          <p:cNvGrpSpPr/>
          <p:nvPr/>
        </p:nvGrpSpPr>
        <p:grpSpPr>
          <a:xfrm>
            <a:off x="7358040" y="4305240"/>
            <a:ext cx="1657440" cy="1847520"/>
            <a:chOff x="7358040" y="4305240"/>
            <a:chExt cx="1657440" cy="1847520"/>
          </a:xfrm>
        </p:grpSpPr>
        <p:pic>
          <p:nvPicPr>
            <p:cNvPr id="196" name="Picture 2" descr="Памятник &quot;Отцовство - это дар&quot;, г. Тюмень. Фото: Анатолий Меньшиков"/>
            <p:cNvPicPr/>
            <p:nvPr/>
          </p:nvPicPr>
          <p:blipFill>
            <a:blip r:embed="rId1"/>
            <a:stretch/>
          </p:blipFill>
          <p:spPr>
            <a:xfrm>
              <a:off x="7358040" y="4305240"/>
              <a:ext cx="165744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Box 6"/>
            <p:cNvSpPr/>
            <p:nvPr/>
          </p:nvSpPr>
          <p:spPr>
            <a:xfrm>
              <a:off x="7770600" y="5297760"/>
              <a:ext cx="82332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г</a:t>
              </a: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. Тюмень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Группа 8"/>
          <p:cNvGrpSpPr/>
          <p:nvPr/>
        </p:nvGrpSpPr>
        <p:grpSpPr>
          <a:xfrm>
            <a:off x="5459400" y="4305240"/>
            <a:ext cx="1324080" cy="1948320"/>
            <a:chOff x="5459400" y="4305240"/>
            <a:chExt cx="1324080" cy="1948320"/>
          </a:xfrm>
        </p:grpSpPr>
        <p:pic>
          <p:nvPicPr>
            <p:cNvPr id="199" name="Picture 4" descr="Памятник счастливому отцу, г. Санкт-Петербург. Фото: petersburglike.ru"/>
            <p:cNvPicPr/>
            <p:nvPr/>
          </p:nvPicPr>
          <p:blipFill>
            <a:blip r:embed="rId2"/>
            <a:stretch/>
          </p:blipFill>
          <p:spPr>
            <a:xfrm>
              <a:off x="5459400" y="4305240"/>
              <a:ext cx="132408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10"/>
            <p:cNvSpPr/>
            <p:nvPr/>
          </p:nvSpPr>
          <p:spPr>
            <a:xfrm>
              <a:off x="5755680" y="5186160"/>
              <a:ext cx="843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г. Санкт-Петербург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Группа 9"/>
          <p:cNvGrpSpPr/>
          <p:nvPr/>
        </p:nvGrpSpPr>
        <p:grpSpPr>
          <a:xfrm>
            <a:off x="3052800" y="4305240"/>
            <a:ext cx="1803240" cy="1842480"/>
            <a:chOff x="3052800" y="4305240"/>
            <a:chExt cx="1803240" cy="1842480"/>
          </a:xfrm>
        </p:grpSpPr>
        <p:pic>
          <p:nvPicPr>
            <p:cNvPr id="202" name="Picture 8" descr="Памятник череповецким металлургам &quot;Преемственность поколений&quot;. Фото: vologdatourinfo.ru"/>
            <p:cNvPicPr/>
            <p:nvPr/>
          </p:nvPicPr>
          <p:blipFill>
            <a:blip r:embed="rId3"/>
            <a:stretch/>
          </p:blipFill>
          <p:spPr>
            <a:xfrm>
              <a:off x="3052800" y="4305240"/>
              <a:ext cx="180324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Box 13"/>
            <p:cNvSpPr/>
            <p:nvPr/>
          </p:nvSpPr>
          <p:spPr>
            <a:xfrm>
              <a:off x="3361680" y="5323680"/>
              <a:ext cx="1234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г. Стерлитамак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Умножение 3"/>
          <p:cNvGrpSpPr/>
          <p:nvPr/>
        </p:nvGrpSpPr>
        <p:grpSpPr>
          <a:xfrm>
            <a:off x="11496600" y="6345360"/>
            <a:ext cx="414360" cy="415800"/>
            <a:chOff x="11496600" y="6345360"/>
            <a:chExt cx="414360" cy="415800"/>
          </a:xfrm>
        </p:grpSpPr>
        <p:pic>
          <p:nvPicPr>
            <p:cNvPr id="205" name="Умножение 3" descr="">
              <a:hlinkClick r:id="" action="ppaction://hlinkshowjump?jump=endshow"/>
            </p:cNvPr>
            <p:cNvPicPr/>
            <p:nvPr/>
          </p:nvPicPr>
          <p:blipFill>
            <a:blip r:embed="rId4"/>
            <a:stretch/>
          </p:blipFill>
          <p:spPr>
            <a:xfrm>
              <a:off x="11496600" y="6345360"/>
              <a:ext cx="41436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11531520" y="6375240"/>
              <a:ext cx="3571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0ad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1"/>
          <p:cNvSpPr/>
          <p:nvPr/>
        </p:nvSpPr>
        <p:spPr>
          <a:xfrm>
            <a:off x="1569960" y="2320920"/>
            <a:ext cx="105076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s://abrakadabra.fun/40435-shablon-dlja-objavlenija-v-detskom-den-otc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s://pt.vecteezy.com/arte-vetorial/2382311-plano-de-fundo-do-dia-do-p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https://learningapps.org/view21699865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s://vk.com/@-193286720-viktorina-papa-mozhet-vse-chto-ugod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s://ru.wikipedia.org/wiki/%D0%94%D0%B5%D0%BD%D1%8C_%D0%BE%D1%82%D1%86%D0%B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s://rusbatya.ru/8-pamyatnikov-ottsam-v-rossii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s://www.pravmir.ru/stihi-pro-papu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s://tlgrm.ru/channels/@razgovory_o_vazhn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s://vk.com/@-193286720-viktorina-papa-mozhet-vse-chto-ugodno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aksakovka.ru/meropriyatiya-i-novosti/7473/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"/>
          <p:cNvSpPr/>
          <p:nvPr/>
        </p:nvSpPr>
        <p:spPr>
          <a:xfrm>
            <a:off x="3727440" y="750960"/>
            <a:ext cx="444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55a11"/>
                </a:solidFill>
                <a:latin typeface="Calibri"/>
              </a:rPr>
              <a:t>Источники информа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Умножение 4"/>
          <p:cNvGrpSpPr/>
          <p:nvPr/>
        </p:nvGrpSpPr>
        <p:grpSpPr>
          <a:xfrm>
            <a:off x="11496600" y="6345360"/>
            <a:ext cx="414360" cy="415800"/>
            <a:chOff x="11496600" y="6345360"/>
            <a:chExt cx="414360" cy="415800"/>
          </a:xfrm>
        </p:grpSpPr>
        <p:pic>
          <p:nvPicPr>
            <p:cNvPr id="210" name="Умножение 4" descr="">
              <a:hlinkClick r:id="" action="ppaction://hlinkshowjump?jump=endshow"/>
            </p:cNvPr>
            <p:cNvPicPr/>
            <p:nvPr/>
          </p:nvPicPr>
          <p:blipFill>
            <a:blip r:embed="rId4"/>
            <a:stretch/>
          </p:blipFill>
          <p:spPr>
            <a:xfrm>
              <a:off x="11496600" y="6345360"/>
              <a:ext cx="41436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1531520" y="6375240"/>
              <a:ext cx="3571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Admin\Desktop\разговор о важном\1313.970.png"/>
          <p:cNvPicPr/>
          <p:nvPr/>
        </p:nvPicPr>
        <p:blipFill>
          <a:blip r:embed="rId1"/>
          <a:stretch/>
        </p:blipFill>
        <p:spPr>
          <a:xfrm>
            <a:off x="1357200" y="1398600"/>
            <a:ext cx="4046760" cy="4046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D:\Admin\Desktop\разговор о важном\MR78R7xX5gq3C27hsHs5x1kFA59YHGkrnNjIHHLV.jpg"/>
          <p:cNvPicPr/>
          <p:nvPr/>
        </p:nvPicPr>
        <p:blipFill>
          <a:blip r:embed="rId2"/>
          <a:srcRect l="0" t="12355" r="0" b="0"/>
          <a:stretch/>
        </p:blipFill>
        <p:spPr>
          <a:xfrm>
            <a:off x="5246640" y="1149480"/>
            <a:ext cx="4711680" cy="4128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414440" y="698760"/>
            <a:ext cx="9594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имвол праздника —розы: красные розы дарят, если отец жив,  белые розы дарят, если отец ум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д"/>
          <p:cNvPicPr/>
          <p:nvPr/>
        </p:nvPicPr>
        <p:blipFill>
          <a:blip r:embed="rId1"/>
          <a:stretch/>
        </p:blipFill>
        <p:spPr>
          <a:xfrm>
            <a:off x="1871640" y="4094280"/>
            <a:ext cx="3087720" cy="2597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я"/>
          <p:cNvPicPr/>
          <p:nvPr/>
        </p:nvPicPr>
        <p:blipFill>
          <a:blip r:embed="rId2"/>
          <a:stretch/>
        </p:blipFill>
        <p:spPr>
          <a:xfrm>
            <a:off x="6885000" y="4202280"/>
            <a:ext cx="3255840" cy="26557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2784600" y="1595520"/>
            <a:ext cx="65890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гда в России отмечается День От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0" y="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248520" y="727200"/>
            <a:ext cx="568008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2048040" y="2052360"/>
            <a:ext cx="781344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 вы считаете, важен ли этот праздник?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4"/>
          <p:cNvSpPr/>
          <p:nvPr/>
        </p:nvSpPr>
        <p:spPr>
          <a:xfrm>
            <a:off x="4115880" y="356220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смотр видеорол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884240" y="1865160"/>
            <a:ext cx="899172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ец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казыва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А)Не на худо учи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Отец рыба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Б)Отцу отра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Отец сы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В)Отец и хвали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Умный сы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Г)И дети в воду смотр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Слава сын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Д)Отцу заме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3186000" y="1123920"/>
            <a:ext cx="6096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Соедините начало и конец послов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313000" y="1935000"/>
            <a:ext cx="867420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ец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казыва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)Отец и хвалит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Отец рыба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Г)И дети в воду смотря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Отец сы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)Не на худо уч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Умный сы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Д)Отцу замен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Слава сын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            Б)Отцу от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6608880" y="2008080"/>
            <a:ext cx="3103560" cy="4860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6664320" y="2631960"/>
            <a:ext cx="4322880" cy="4860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6649920" y="3214800"/>
            <a:ext cx="3103560" cy="4842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6622920" y="3921120"/>
            <a:ext cx="3103560" cy="4842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6649920" y="4557600"/>
            <a:ext cx="3103560" cy="4860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:\Admin\Desktop\1631010815_6-papik-pro-p-risunok-raskraska-papa-7.jpg"/>
          <p:cNvPicPr/>
          <p:nvPr/>
        </p:nvPicPr>
        <p:blipFill>
          <a:blip r:embed="rId1"/>
          <a:stretch/>
        </p:blipFill>
        <p:spPr>
          <a:xfrm>
            <a:off x="4799160" y="1828800"/>
            <a:ext cx="2627280" cy="3013200"/>
          </a:xfrm>
          <a:prstGeom prst="rect">
            <a:avLst/>
          </a:prstGeom>
          <a:ln w="0">
            <a:noFill/>
          </a:ln>
        </p:spPr>
      </p:pic>
      <p:cxnSp>
        <p:nvCxnSpPr>
          <p:cNvPr id="67" name="Прямая со стрелкой 3"/>
          <p:cNvCxnSpPr/>
          <p:nvPr/>
        </p:nvCxnSpPr>
        <p:spPr>
          <a:xfrm flipH="1">
            <a:off x="3809160" y="2757240"/>
            <a:ext cx="1621800" cy="5547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cxnSp>
        <p:nvCxnSpPr>
          <p:cNvPr id="68" name="Прямая со стрелкой 5"/>
          <p:cNvCxnSpPr/>
          <p:nvPr/>
        </p:nvCxnSpPr>
        <p:spPr>
          <a:xfrm flipH="1">
            <a:off x="3518640" y="4266720"/>
            <a:ext cx="1428120" cy="51372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cxnSp>
        <p:nvCxnSpPr>
          <p:cNvPr id="69" name="Прямая со стрелкой 9"/>
          <p:cNvCxnSpPr/>
          <p:nvPr/>
        </p:nvCxnSpPr>
        <p:spPr>
          <a:xfrm>
            <a:off x="7009920" y="2479680"/>
            <a:ext cx="1220040" cy="849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cxnSp>
        <p:nvCxnSpPr>
          <p:cNvPr id="70" name="Прямая со стрелкой 11"/>
          <p:cNvCxnSpPr/>
          <p:nvPr/>
        </p:nvCxnSpPr>
        <p:spPr>
          <a:xfrm>
            <a:off x="7287840" y="4571640"/>
            <a:ext cx="956520" cy="30564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cxnSp>
        <p:nvCxnSpPr>
          <p:cNvPr id="71" name="Прямая со стрелкой 13"/>
          <p:cNvCxnSpPr/>
          <p:nvPr/>
        </p:nvCxnSpPr>
        <p:spPr>
          <a:xfrm flipH="1" flipV="1">
            <a:off x="4641120" y="2215800"/>
            <a:ext cx="1011960" cy="45792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arrow" w="med"/>
          </a:ln>
        </p:spPr>
      </p:cxnSp>
      <p:sp>
        <p:nvSpPr>
          <p:cNvPr id="72" name="Овал 15"/>
          <p:cNvSpPr/>
          <p:nvPr/>
        </p:nvSpPr>
        <p:spPr>
          <a:xfrm>
            <a:off x="1066680" y="2909880"/>
            <a:ext cx="2632320" cy="1135080"/>
          </a:xfrm>
          <a:prstGeom prst="ellipse">
            <a:avLst/>
          </a:prstGeom>
          <a:solidFill>
            <a:srgbClr val="fe9ef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16"/>
          <p:cNvSpPr/>
          <p:nvPr/>
        </p:nvSpPr>
        <p:spPr>
          <a:xfrm>
            <a:off x="941400" y="4475160"/>
            <a:ext cx="2633760" cy="11365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17"/>
          <p:cNvSpPr/>
          <p:nvPr/>
        </p:nvSpPr>
        <p:spPr>
          <a:xfrm>
            <a:off x="1870200" y="1496880"/>
            <a:ext cx="2631960" cy="113508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18"/>
          <p:cNvSpPr/>
          <p:nvPr/>
        </p:nvSpPr>
        <p:spPr>
          <a:xfrm>
            <a:off x="7813800" y="2563920"/>
            <a:ext cx="2631960" cy="1135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20"/>
          <p:cNvSpPr/>
          <p:nvPr/>
        </p:nvSpPr>
        <p:spPr>
          <a:xfrm>
            <a:off x="7939080" y="4765680"/>
            <a:ext cx="2631960" cy="1136520"/>
          </a:xfrm>
          <a:prstGeom prst="ellipse">
            <a:avLst/>
          </a:prstGeom>
          <a:solidFill>
            <a:srgbClr val="f8cba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1"/>
          <p:cNvSpPr/>
          <p:nvPr/>
        </p:nvSpPr>
        <p:spPr>
          <a:xfrm>
            <a:off x="4141800" y="928800"/>
            <a:ext cx="4433760" cy="80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Мы вместе с папой любим делать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3552840" y="1076400"/>
            <a:ext cx="5479920" cy="4770360"/>
            <a:chOff x="3552840" y="1076400"/>
            <a:chExt cx="5479920" cy="4770360"/>
          </a:xfrm>
        </p:grpSpPr>
        <p:pic>
          <p:nvPicPr>
            <p:cNvPr id="79" name="Picture 3" descr=""/>
            <p:cNvPicPr/>
            <p:nvPr/>
          </p:nvPicPr>
          <p:blipFill>
            <a:blip r:embed="rId1"/>
            <a:stretch/>
          </p:blipFill>
          <p:spPr>
            <a:xfrm>
              <a:off x="3552840" y="1076400"/>
              <a:ext cx="5479920" cy="47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" descr=""/>
            <p:cNvPicPr/>
            <p:nvPr/>
          </p:nvPicPr>
          <p:blipFill>
            <a:blip r:embed="rId2"/>
            <a:stretch/>
          </p:blipFill>
          <p:spPr>
            <a:xfrm>
              <a:off x="3656520" y="1174320"/>
              <a:ext cx="5189040" cy="449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5"/>
            <p:cNvSpPr/>
            <p:nvPr/>
          </p:nvSpPr>
          <p:spPr>
            <a:xfrm>
              <a:off x="3625200" y="1145520"/>
              <a:ext cx="5251680" cy="4555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13T12:17:23Z</dcterms:created>
  <dc:creator>КЕВ</dc:creator>
  <dc:description/>
  <dc:language>en-US</dc:language>
  <cp:lastModifiedBy>RePack by SPecialiST</cp:lastModifiedBy>
  <dcterms:modified xsi:type="dcterms:W3CDTF">2022-10-08T11:38:25Z</dcterms:modified>
  <cp:revision>45</cp:revision>
  <dc:subject/>
  <dc:title>викторина</dc:title>
</cp:coreProperties>
</file>